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F5F-FD7C-4A0A-B1F4-273CC029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F39-65D2-4008-BF36-975223C2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6D1-65CA-4BA6-9F9B-4148581C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FF5-DC74-41D0-8264-AB8327A3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B10-D231-4C63-9311-7F2CB213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95B-D3FB-4866-ADB3-367F5A3D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98A-2CEA-4178-B72B-2E74913D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5AE-CD52-488A-BFC9-CBB05E7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766-08DD-49E9-813E-3BCB10D8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C18-E0A3-4206-9036-AE3E1334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7F2-5B06-43F3-9B34-BCBCEF05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0F6-E70D-472C-8F21-8B404F0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B313-0913-4AAD-8122-8E9A55F4E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esta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ist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joven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you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guap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458136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good look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fe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g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simpátic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esta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content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delgad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h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alt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aj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ho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ist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lev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oc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gord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viej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5:30:04Z</dcterms:created>
  <dc:creator>Helen</dc:creator>
  <dc:description/>
  <dc:language>en-US</dc:language>
  <cp:lastModifiedBy>Helen</cp:lastModifiedBy>
  <dcterms:modified xsi:type="dcterms:W3CDTF">2010-04-30T18:07:08Z</dcterms:modified>
  <cp:revision>5</cp:revision>
  <dc:subject/>
  <dc:title>El babuino es……</dc:title>
</cp:coreProperties>
</file>